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16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3240" rIns="93240" tIns="46440" bIns="46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move the slide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ftr" idx="17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 type="sldNum" idx="18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5121D-EA14-446C-A0BF-05C7B97E65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A6376-63A4-40D3-8580-AEE90294F5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68B3C-98AD-499B-A921-B5102D68C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4E369-A5B4-4CCF-8E16-34331D9C5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BEC63-BC56-4F2E-871E-81FA9F8C6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92C85-4D09-45EC-81DA-2284987EF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3E48F-CA5E-4BA4-90B9-E6796FBB6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DD4CD-FDAB-4C2A-8D23-89B7C1BD0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0D1F1-B858-4928-9725-F4276C396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56D2D-AD4A-4FF5-831A-5B05C17C3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00CC6-82CF-4565-AFA1-8B1381F60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0D22F-7AAE-425C-B43B-F89E4B2D4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BE37F-3219-499E-B928-34A5B4E01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E8712-8C22-4943-A12E-F2727320B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48044-A06D-444E-BDC6-E6003C309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131D8-AE0C-401E-8BF6-952CE1BD2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8C34E-E574-4E7B-88B0-4190AF1CE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BF538-B4F8-4FD8-9348-27E9A323C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64826-3014-4D10-A7BB-DED04C7E0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10F523-905A-484D-B1F9-8849E230E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CE814E-703A-40C5-B80E-25430A1E6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AC450C-F67A-4ECE-90E6-B965F67BA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805278-F20D-4D52-A757-836E6D8C1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B6C513-EC3E-4C89-9A7E-789CE122E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5B6EF-2376-45F1-9E5B-F03A38CAA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B1D96A-FECE-48E0-8C24-6142065EE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0AD1F4-21D1-4DA6-9FCF-4AC75281B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634755-BCE5-4D4F-A47E-8E23C726C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710925-AB01-410B-A6EB-C13D0B883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15D63F-5B86-456C-A049-417F17F56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94B581-52C5-4AC3-A87B-35075A550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E59D5C-CD98-4C55-9327-DA0DFE1EA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B832FF-282F-4EAB-896D-A0FBFB278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BEDB99-B3DA-475F-8371-FF8AEE8FC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D7FF37-A75A-4B10-82A7-37C9C6744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F678E-39FC-41F1-BEF5-F92D414F6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C288A6-B882-40DF-930C-983AD1DCE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7FACA7-1873-487C-8234-E3C634EBA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94B912-2F76-4844-962A-B8944F3C0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5C084C-F7F3-4BBA-B684-8A71F776B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E45023-AFFF-48B5-BA7C-63E116A67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E179CE-1EC2-4456-A306-B46FA9850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70FAD4-FD9E-46FC-A915-6B3CBE09E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851262-AE98-420A-A8C9-E363380FB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968DED-F7B4-43FA-94F0-AE6422E8A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A76A99-7A42-4A47-963F-B1057CE60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6B3D6-3C13-4C52-BF3E-8D48AE482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B21C73-D931-48F1-B001-E572F3ABA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E2D181-7069-4804-97B7-365EFFC15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ED8BF1-9F67-44F6-8F83-C65C93630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00D079-E650-4FE1-9D1E-AD3AF524C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91C18C-93B3-483A-A3BE-6BB6FBA95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96A86B-7085-460A-AADC-749F93690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993F09-3F02-45F3-B55C-842C1A611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F5DCB5-DFF7-4E64-BA34-E559570D0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F08244-1377-418D-9708-D2E6C71DA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424062-A95C-4210-8377-9CB800EB7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F369C-58FE-4AEA-B235-0DECB000E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756F51-0816-4529-88F9-EE24F07A3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95031-6F16-4773-95A0-342466171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68AFA-6BA6-43EC-912D-68C053ABE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E8581-B8FB-4004-B967-F258B779C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3240" y="5051520"/>
            <a:ext cx="3575160" cy="180648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-1440" y="5051520"/>
            <a:ext cx="9145440" cy="180648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A0A72-39D7-4829-926F-DF803AC412F1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1691A-DBAF-4F46-A4F2-180C01F8AE47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ight Triangle 8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" name="Freeform 9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C4BAD-3C92-4CD5-A36F-AD97EBB5DBB1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EFB62-9386-42DE-BCF4-2ABA8C4ADD97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8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7" name="Right Triangle 9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D19FB-13B6-493F-AD66-626A286E7922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E7DDC-D92A-476D-93CE-417B24224685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ight Triangle 8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0" name="Right Triangle 9"/>
          <p:cNvSpPr/>
          <p:nvPr/>
        </p:nvSpPr>
        <p:spPr>
          <a:xfrm rot="5400000">
            <a:off x="433440" y="-433440"/>
            <a:ext cx="6858000" cy="7724880"/>
          </a:xfrm>
          <a:prstGeom prst="rtTriangle">
            <a:avLst/>
          </a:pr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24926-C437-4031-B5D2-6B69AB5C4E39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434342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43434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D9815-4748-4D99-9B5F-EF283007C51B}" type="slidenum">
              <a:rPr b="0" lang="en-US" sz="1600" spc="-1" strike="noStrike">
                <a:solidFill>
                  <a:srgbClr val="434342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ight Triangle 8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3" name="Freeform 9"/>
          <p:cNvSpPr/>
          <p:nvPr/>
        </p:nvSpPr>
        <p:spPr>
          <a:xfrm>
            <a:off x="0" y="5048280"/>
            <a:ext cx="3571920" cy="1809720"/>
          </a:xfrm>
          <a:custGeom>
            <a:avLst/>
            <a:gdLst/>
            <a:ahLst/>
            <a:rect l="l" t="t" r="r" b="b"/>
            <a:pathLst>
              <a:path w="3571875" h="1809750">
                <a:moveTo>
                  <a:pt x="0" y="1809750"/>
                </a:moveTo>
                <a:lnTo>
                  <a:pt x="2038350" y="0"/>
                </a:lnTo>
                <a:lnTo>
                  <a:pt x="3571875" y="1809750"/>
                </a:lnTo>
                <a:lnTo>
                  <a:pt x="0" y="1809750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708F5-B9F4-4EC1-A05F-AE6B5B3D54C3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8115A-4BAE-428B-800C-F4EE2B25F342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 rot="19140000">
            <a:off x="236520" y="1191960"/>
            <a:ext cx="5648400" cy="94428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Franklin Gothic Medium"/>
              </a:rPr>
              <a:t>PLC Team Norms</a:t>
            </a: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 rot="19140000">
            <a:off x="907560" y="1658520"/>
            <a:ext cx="6512040" cy="1254240"/>
          </a:xfrm>
          <a:prstGeom prst="rect">
            <a:avLst/>
          </a:prstGeom>
          <a:noFill/>
          <a:ln w="0">
            <a:noFill/>
          </a:ln>
        </p:spPr>
        <p:txBody>
          <a:bodyPr tIns="90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Franklin Gothic Book"/>
              </a:rPr>
              <a:t>What are norms?</a:t>
            </a:r>
            <a:endParaRPr b="1" lang="en-US" sz="4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Medium"/>
              </a:rPr>
              <a:t>Team Norms</a:t>
            </a: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411480" indent="-411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In PLCs norms represent protocols and commitments developed by each team to guide members in working together.</a:t>
            </a:r>
            <a:endParaRPr b="1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411480" indent="-411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Norms help team members clarify expectations regarding how they will work together to achieve their shared goals.</a:t>
            </a:r>
            <a:endParaRPr b="1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Medium"/>
              </a:rPr>
              <a:t>A Strategy for Establishing Team Norms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nk of a past negative experience you have had serving on a team or committee and identify a specific behavior that prevented your group from being effective.</a:t>
            </a:r>
            <a:endParaRPr b="1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365040"/>
            <a:ext cx="830592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NEGATIVE EXPERIENCES – POSITIVE COMMITMENTS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822240" y="1100160"/>
            <a:ext cx="752184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-452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For example, whining or complaining, arriving late and leaving early, texting during meeting, being disengaged during the meetings, and so on.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452520" indent="-452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For each negative norm identified by members of your team, establish a positive commitment statement (a norm) your team should adopt that, if everyone adhered to it, would prevent the past negative experience from recurring.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452520" indent="-452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452520" indent="-45252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(10 minute activity)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Medium"/>
              </a:rPr>
              <a:t>Tips for Establishing Team Norms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822240" y="1100160"/>
            <a:ext cx="7521840" cy="38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Each team establishes its own norms.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4320" indent="-2743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Norms are stated as commitments to act in certain ways rather than as beliefs.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4320" indent="-2743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Norms are reviewed at the beginning and end of each meeting until each team member internalizes them.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4320" indent="-2743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One norm should require the team to assess its effectiveness at least twice during each school year.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4320" indent="-2743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This assessment should include a review of members</a:t>
            </a:r>
            <a:r>
              <a:rPr b="0" lang="ja-JP" sz="2400" spc="-1" strike="noStrike">
                <a:solidFill>
                  <a:srgbClr val="000000"/>
                </a:solidFill>
                <a:latin typeface="Franklin Gothic Book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 adherence to team norms and the need to add new norms.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4320" indent="-2743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Less is more. A few key norms are better than a laundry list.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4320" indent="-2743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Violation of norms should be addressed. 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EXAMPLES OF TEAM NORMS: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29480" indent="-42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Franklin Gothic Book"/>
              </a:rPr>
              <a:t>We will maintain a positive tone at our meetings.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429480" indent="-42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Franklin Gothic Book"/>
              </a:rPr>
              <a:t>We will not complain about a problem unless we can offer a solution.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429480" indent="-42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Franklin Gothic Book"/>
              </a:rPr>
              <a:t>We will begin and end our meetings on time and stay fully engaged throughout each meeting.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429480" indent="-42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Franklin Gothic Book"/>
              </a:rPr>
              <a:t>We will contribute equally to the workload of this team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429480" indent="-42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Franklin Gothic Book"/>
              </a:rPr>
              <a:t>We will listen respectfully and consider matters from another</a:t>
            </a:r>
            <a:r>
              <a:rPr b="0" i="1" lang="ja-JP" sz="2400" spc="-1" strike="noStrike">
                <a:solidFill>
                  <a:srgbClr val="000000"/>
                </a:solidFill>
                <a:latin typeface="Franklin Gothic Book"/>
              </a:rPr>
              <a:t>’</a:t>
            </a:r>
            <a:r>
              <a:rPr b="0" i="1" lang="en-US" sz="2400" spc="-1" strike="noStrike">
                <a:solidFill>
                  <a:srgbClr val="000000"/>
                </a:solidFill>
                <a:latin typeface="Franklin Gothic Book"/>
              </a:rPr>
              <a:t>s perspective.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9:41:21Z</dcterms:created>
  <dc:creator>Authorized User</dc:creator>
  <dc:description/>
  <dc:language>en-US</dc:language>
  <cp:lastModifiedBy>Heather Davis Schmidt</cp:lastModifiedBy>
  <cp:lastPrinted>2011-08-22T20:34:20Z</cp:lastPrinted>
  <dcterms:modified xsi:type="dcterms:W3CDTF">2013-08-15T05:36:37Z</dcterms:modified>
  <cp:revision>5</cp:revision>
  <dc:subject/>
  <dc:title>PLC Team Norms</dc:title>
</cp:coreProperties>
</file>